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66B-B992-4B65-84F7-A15678E9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AC9-3738-453F-BB96-95205C79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084-391C-455F-99EF-C9D1B8CA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E23-27F0-468C-913F-0A4CF49B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C3FB6-01D3-4718-83A5-CAD34C86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35955-7885-4C97-8264-9FC22BAD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408A6-5245-4090-8005-591C648D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27C59-F673-4C5C-B30D-C5571A4A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D8A91-F98D-45AD-AF96-6A2C30EB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76023-32D2-47F2-AA62-ECC2A165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E368E-8FAD-4DCA-BB9D-E2633C2E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836-8158-408B-890B-D6499FB1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96FD6-432D-4328-BFC0-D28544B4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7206E-7603-44B6-8766-59E249E3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690C3-C584-40C9-91D2-6CCBBBAB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92AE7-A9D7-4EF5-A07F-21EE24B9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27390-4C45-4B38-AE6C-EA8208BE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50E-A463-48E9-AE33-307C2FD3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EAD-FAD8-4367-B688-6E64C7F9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6E4-68EC-4A61-879B-AE695C68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826-7FFF-43A7-AF81-97B4109F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5C4-BFEB-46D6-BF7F-2CC6E501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45A-B594-4F82-982A-80EB0C3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9FA2-9829-4C60-B477-D541C07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349A-A04B-47C8-8B32-DA4E25B6B3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A753-E570-4E6D-A29D-E7F2C4712E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3e3ff"/>
                </a:solidFill>
                <a:latin typeface="Arial"/>
                <a:ea typeface="David Transparent"/>
              </a:rPr>
              <a:t>IRS Project Presentatio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 By Topaz 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search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 playing Risk</a:t>
            </a:r>
            <a:r>
              <a:rPr b="0" lang="en-GB" sz="3200" spc="-1" strike="noStrike">
                <a:solidFill>
                  <a:srgbClr val="ffffff"/>
                </a:solidFill>
                <a:latin typeface="MS Reference Specialty"/>
                <a:ea typeface="MS Reference Specialty"/>
              </a:rPr>
              <a:t>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a person wiser in making decis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ing Risk will help a person make better decisions (related to the g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erimental Procedur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1: Introduce someone new to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2: Let him/her have a few goes at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3: Let him/her play against someone experienced (e.g. 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4: Record my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314880" y="3198960"/>
            <a:ext cx="25146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3:36:30Z</dcterms:created>
  <dc:creator>topaz tan</dc:creator>
  <dc:description/>
  <dc:language>en-US</dc:language>
  <cp:lastModifiedBy>topaz tan</cp:lastModifiedBy>
  <dcterms:modified xsi:type="dcterms:W3CDTF">2010-04-21T14:02:35Z</dcterms:modified>
  <cp:revision>2</cp:revision>
  <dc:subject/>
  <dc:title>IRS Project Presentation</dc:title>
</cp:coreProperties>
</file>